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E6F-E78D-4AC6-BB93-72F049EB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659-D49E-492D-A7FE-A8DD04C3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5D3-0029-497F-B911-1EE089B6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9CC-75DF-4ED8-A483-C98BAD38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291-C6B8-467C-84D9-1DCF2B9D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1B3-DF47-4D84-B859-F5898F14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741-42D8-40B9-B7F0-16EDEF5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3E6-7B63-46AC-AF10-289F728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D62-B30E-4D7C-986E-C67645F0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79F-0738-4CE1-B8CC-A8AAE70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9BE-8EEE-47E7-A337-5AC69622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D38-4C81-4CB1-AF7C-DCBCAC9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9548-F00A-4C1B-8610-3EA9E1B1F6A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a&#35760;&#32773;&#27604;&#39046;&#23548;&#36824;&#22351;p00.mpg" TargetMode="External"/><Relationship Id="rId2" Type="http://schemas.openxmlformats.org/officeDocument/2006/relationships/hyperlink" Target="file:///MV&#36149;&#38451;&#20303;&#24314;&#23616;&#38271;I_2808.AVI" TargetMode="External"/><Relationship Id="rId3" Type="http://schemas.openxmlformats.org/officeDocument/2006/relationships/hyperlink" Target="file:///MV&#36149;&#38451;&#20303;&#24314;&#23616;&#38271;I_2808.AVI" TargetMode="External"/><Relationship Id="rId4" Type="http://schemas.openxmlformats.org/officeDocument/2006/relationships/hyperlink" Target="file:///MV&#36149;&#38451;&#20303;&#24314;&#23616;&#38271;I_2808.AVI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3186;&#20307;&#30417;&#30563;&#26080;&#22788;&#19981;&#22312;.ppt" TargetMode="External"/><Relationship Id="rId2" Type="http://schemas.openxmlformats.org/officeDocument/2006/relationships/hyperlink" Target="file:///&#20892;&#19994;&#33286;&#24773;&#30340;&#29305;&#28857;&#19982;&#24433;&#21709;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32593;&#32476;&#33286;&#24773;&#39044;&#35686;&#26426;&#21046;.ppt" TargetMode="External"/><Relationship Id="rId2" Type="http://schemas.openxmlformats.org/officeDocument/2006/relationships/hyperlink" Target="file:///&#28041;&#20892;&#31361;&#21457;&#20107;&#20214;&#24555;&#36895;&#22788;&#29702;&#26426;&#21046;.ppt" TargetMode="External"/><Relationship Id="rId3" Type="http://schemas.openxmlformats.org/officeDocument/2006/relationships/hyperlink" Target="file:///&#25104;&#21151;&#24212;&#23545;&#23186;&#20307;&#37319;&#35775;.ppt" TargetMode="External"/><Relationship Id="rId4" Type="http://schemas.openxmlformats.org/officeDocument/2006/relationships/hyperlink" Target="file:///&#22914;&#20309;&#24320;&#22909;&#26032;&#38395;&#21457;&#24067;&#20250;.ppt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984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fd293"/>
                </a:solidFill>
                <a:latin typeface="Arial"/>
                <a:ea typeface="华文行楷"/>
              </a:rPr>
              <a:t>农业行业突发事件的媒体沟通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8700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河南省委党校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胡曾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 u="sng">
                <a:solidFill>
                  <a:srgbClr val="ffff99"/>
                </a:solidFill>
                <a:uFillTx/>
                <a:latin typeface="Arial"/>
                <a:ea typeface="华文行楷"/>
                <a:hlinkClick r:id="rId1"/>
              </a:rPr>
              <a:t>ca记者比领导还坏p00.mp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华文行楷"/>
              </a:rPr>
              <a:t>  </a:t>
            </a:r>
            <a:r>
              <a:rPr b="0" lang="en-US" sz="800" spc="-1" strike="noStrike" u="sng">
                <a:solidFill>
                  <a:srgbClr val="ffff99"/>
                </a:solidFill>
                <a:uFillTx/>
                <a:latin typeface="Arial"/>
                <a:ea typeface="华文行楷"/>
                <a:hlinkClick r:id="rId2"/>
              </a:rPr>
              <a:t>MV</a:t>
            </a:r>
            <a:r>
              <a:rPr b="0" lang="zh-CN" sz="800" spc="-1" strike="noStrike" u="sng">
                <a:solidFill>
                  <a:srgbClr val="ffff99"/>
                </a:solidFill>
                <a:uFillTx/>
                <a:latin typeface="Arial"/>
                <a:ea typeface="华文行楷"/>
                <a:hlinkClick r:id="rId3"/>
              </a:rPr>
              <a:t>贵阳住建局长</a:t>
            </a:r>
            <a:r>
              <a:rPr b="0" lang="en-US" sz="800" spc="-1" strike="noStrike" u="sng">
                <a:solidFill>
                  <a:srgbClr val="ffff99"/>
                </a:solidFill>
                <a:uFillTx/>
                <a:latin typeface="Arial"/>
                <a:ea typeface="华文行楷"/>
                <a:hlinkClick r:id="rId4"/>
              </a:rPr>
              <a:t>I_2808.AV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河南新密</a:t>
            </a:r>
            <a:r>
              <a:rPr b="0" lang="zh-CN" sz="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Fl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6381720"/>
            <a:ext cx="792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572000" y="144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5720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fd293"/>
                </a:solidFill>
                <a:latin typeface="Arial"/>
                <a:ea typeface="隶书"/>
              </a:rPr>
              <a:t>主要内容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4358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关注媒体  了解行业舆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涉农舆情的应对策略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教学互动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员研讨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d293"/>
                </a:solidFill>
                <a:latin typeface="楷体_GB2312"/>
                <a:ea typeface="楷体_GB2312"/>
              </a:rPr>
              <a:t>一、关注媒体  了解行业舆情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" y="2565000"/>
            <a:ext cx="4752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新媒体时代媒体监督严峻形势</a:t>
            </a:r>
            <a:r>
              <a:rPr b="0" lang="zh-CN" sz="800" spc="-1" strike="noStrike" u="sng">
                <a:solidFill>
                  <a:srgbClr val="ffff99"/>
                </a:solidFill>
                <a:uFillTx/>
                <a:latin typeface="楷体_GB2312"/>
                <a:ea typeface="楷体_GB2312"/>
                <a:hlinkClick r:id="rId1"/>
              </a:rPr>
              <a:t>媒体监督无处不在.pp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农业舆情的特点与影响</a:t>
            </a:r>
            <a:r>
              <a:rPr b="0" lang="zh-CN" sz="800" spc="-1" strike="noStrike" u="sng">
                <a:solidFill>
                  <a:srgbClr val="ffff99"/>
                </a:solidFill>
                <a:uFillTx/>
                <a:latin typeface="Arial"/>
                <a:ea typeface="楷体_GB2312"/>
                <a:hlinkClick r:id="rId2"/>
              </a:rPr>
              <a:t>农业舆情的特点与影响.pp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3"/>
          <a:stretch/>
        </p:blipFill>
        <p:spPr>
          <a:xfrm>
            <a:off x="4933800" y="2349360"/>
            <a:ext cx="42195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fd293"/>
                </a:solidFill>
                <a:latin typeface="楷体_GB2312"/>
                <a:ea typeface="华文新魏"/>
              </a:rPr>
              <a:t>二、涉农舆情的应对策略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920" y="2495160"/>
            <a:ext cx="8791560" cy="36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（一）建立涉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网络舆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应对预警机制</a:t>
            </a:r>
            <a:r>
              <a:rPr b="1" lang="zh-CN" sz="800" spc="-1" strike="noStrike" u="sng">
                <a:solidFill>
                  <a:srgbClr val="ffff99"/>
                </a:solidFill>
                <a:uFillTx/>
                <a:latin typeface="Arial"/>
                <a:ea typeface="楷体_GB2312"/>
                <a:hlinkClick r:id="rId1"/>
              </a:rPr>
              <a:t>网络舆情预警机制.pp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（二）建立涉农突发事件快速处理机制</a:t>
            </a:r>
            <a:r>
              <a:rPr b="1" lang="zh-CN" sz="800" spc="-1" strike="noStrike" u="sng">
                <a:solidFill>
                  <a:srgbClr val="ffff99"/>
                </a:solidFill>
                <a:uFillTx/>
                <a:latin typeface="Arial"/>
                <a:ea typeface="楷体_GB2312"/>
                <a:hlinkClick r:id="rId2"/>
              </a:rPr>
              <a:t>涉农突发事件.pp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（三）掌握与媒体沟通的原则技巧</a:t>
            </a:r>
            <a:r>
              <a:rPr b="1" lang="zh-CN" sz="800" spc="-1" strike="noStrike" u="sng">
                <a:solidFill>
                  <a:srgbClr val="ffff99"/>
                </a:solidFill>
                <a:uFillTx/>
                <a:latin typeface="Arial"/>
                <a:ea typeface="楷体_GB2312"/>
                <a:hlinkClick r:id="rId3"/>
              </a:rPr>
              <a:t>成功应对媒体采访.pp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（四）完善并强化信息公开和新闻发布机制</a:t>
            </a:r>
            <a:r>
              <a:rPr b="1" lang="zh-CN" sz="800" spc="-1" strike="noStrike" u="sng">
                <a:solidFill>
                  <a:srgbClr val="ffff99"/>
                </a:solidFill>
                <a:uFillTx/>
                <a:latin typeface="Arial"/>
                <a:ea typeface="楷体_GB2312"/>
                <a:hlinkClick r:id="rId4"/>
              </a:rPr>
              <a:t>如会.pp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406080"/>
            <a:ext cx="8929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fd293"/>
                </a:solidFill>
                <a:latin typeface="华文新魏"/>
                <a:ea typeface="华文新魏"/>
              </a:rPr>
              <a:t>三 </a:t>
            </a:r>
            <a:r>
              <a:rPr b="1" lang="zh-CN" sz="5400" spc="-1" strike="noStrike">
                <a:solidFill>
                  <a:srgbClr val="dfd293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dfd293"/>
                </a:solidFill>
                <a:latin typeface="华文新魏"/>
                <a:ea typeface="华文新魏"/>
              </a:rPr>
              <a:t>教学互动</a:t>
            </a:r>
            <a:r>
              <a:rPr b="1" lang="zh-CN" sz="5400" spc="-1" strike="noStrike">
                <a:solidFill>
                  <a:srgbClr val="dfd293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dfd293"/>
                </a:solidFill>
                <a:latin typeface="华文新魏"/>
                <a:ea typeface="华文新魏"/>
              </a:rPr>
              <a:t>学员研讨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80629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、谈谈经历过的突发事件中应对媒体采访的体会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经验或教训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二、模拟某市农产品质量安全事件新闻发布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36360" y="-2700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32000" y="765000"/>
            <a:ext cx="403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ahoma"/>
                <a:ea typeface="楷体_GB2312"/>
              </a:rPr>
              <a:t>谢谢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87800" y="3502080"/>
            <a:ext cx="69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联系电话 </a:t>
            </a:r>
            <a:r>
              <a:rPr b="1" lang="en-US" sz="5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383853579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2:58:39Z</dcterms:created>
  <dc:creator>Administrator</dc:creator>
  <dc:description/>
  <cp:keywords/>
  <dc:language>en-US</dc:language>
  <cp:lastModifiedBy>User</cp:lastModifiedBy>
  <dcterms:modified xsi:type="dcterms:W3CDTF">2016-05-03T03:56:39Z</dcterms:modified>
  <cp:revision>3</cp:revision>
  <dc:subject/>
  <dc:title>农业行业突发事件的媒体沟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